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5.xml" ContentType="application/vnd.openxmlformats-officedocument.presentationml.notesSlide+xml"/>
  <Override PartName="/ppt/notesSlides/_rels/notesSlide2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5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9.png" ContentType="image/png"/>
  <Override PartName="/ppt/media/hdphoto2.wdp" ContentType="image/vnd.ms-photo"/>
  <Override PartName="/ppt/media/image17.png" ContentType="image/png"/>
  <Override PartName="/ppt/media/image2.png" ContentType="image/png"/>
  <Override PartName="/ppt/media/image8.png" ContentType="image/png"/>
  <Override PartName="/ppt/media/image14.jpeg" ContentType="image/jpeg"/>
  <Override PartName="/ppt/media/hdphoto1.wdp" ContentType="image/vnd.ms-photo"/>
  <Override PartName="/ppt/media/image16.png" ContentType="image/png"/>
  <Override PartName="/ppt/media/image10.png" ContentType="image/png"/>
  <Override PartName="/ppt/media/image26.wmf" ContentType="image/x-wmf"/>
  <Override PartName="/ppt/media/image15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5.png" ContentType="image/png"/>
  <Override PartName="/ppt/media/image19.png" ContentType="image/png"/>
  <Override PartName="/ppt/media/image18.png" ContentType="image/png"/>
  <Override PartName="/ppt/media/image12.png" ContentType="image/png"/>
  <Override PartName="/ppt/media/image20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EEC36E3-D284-459D-81E8-00FC789C32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00D899A-59D4-409C-B0E5-7908341E7E01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el 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скоряющи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, decel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рмозящий электр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857D235-8A5D-4DCB-AF47-C45315D26CF6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ess shel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защита от перегрузок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, taper pins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конический штиф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, retaning ring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жимное кольц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sldNum" idx="1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C6CAAE9-32E2-4B31-A89D-20EE853FF2DE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26D9-CF24-4355-B142-D50A2AE91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1E15-99DB-4FF2-9783-3795BEC2E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F41D-7859-42D9-942C-CB3CF2EB6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A060-170A-40FE-9242-57E251536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40E82-070F-4FCE-80DA-0D2905EFF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F9981-3415-4586-98E2-9472774DF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75EC4-5F16-433E-B2FD-EE07E81F6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8A002-5359-4138-B7F9-01EC58FBD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8B673-6193-4C41-8B23-41B4F88AA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CFA12-7498-4567-AC59-A32C75E41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E6913-82FC-4CF3-8589-53C4B43B0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6F88-3578-4E77-95BF-DF7787C03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7FDC2-EE86-452E-9B5B-A40C060D9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CB0E2-D658-405B-9188-33495B262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16441-EE11-4741-B04D-E07986D08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2C918-407B-4A0C-AF0B-0A3915B56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CB56C-F8D7-42EE-94AC-B32BA4766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9E21-0F56-414D-9F53-2FB033165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CF39-826C-455E-971E-A7D680E3C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0156-AAA8-44F0-898B-B33BAD2FA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6D67-3851-4D0F-B05B-5AD8057E3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EFE4-ACDF-45CD-9FCB-BF4095BAB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1F90-A2D0-47DE-B8B0-9F1E03023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2388-81C7-417B-ABB7-87C91A2B9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5A7E474-DBA3-49E9-A6BE-84DE83FFC4CC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FC9672E-6405-4F27-AF68-BDB6D26BC9EF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microsoft.com/office/2007/relationships/hdphoto" Target="../media/hdphoto1.wdp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microsoft.com/office/2007/relationships/hdphoto" Target="../media/hdphoto2.wdp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brightnessContrast amount="13000" bright="48000"/>
                    </a14:imgEffect>
                  </a14:imgLayer>
                </a14:imgProps>
              </a:ext>
            </a:extLst>
          </a:blip>
          <a:stretch/>
        </p:blipFill>
        <p:spPr>
          <a:xfrm rot="10800000">
            <a:off x="15480" y="360"/>
            <a:ext cx="8640720" cy="6723000"/>
          </a:xfrm>
          <a:prstGeom prst="rect">
            <a:avLst/>
          </a:prstGeom>
          <a:ln w="0">
            <a:noFill/>
          </a:ln>
        </p:spPr>
      </p:pic>
      <p:sp>
        <p:nvSpPr>
          <p:cNvPr id="89" name="Прямоугольник 4"/>
          <p:cNvSpPr/>
          <p:nvPr/>
        </p:nvSpPr>
        <p:spPr>
          <a:xfrm>
            <a:off x="1691640" y="188640"/>
            <a:ext cx="45716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заимодействие ускоренных ионов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 веществ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15640" y="260640"/>
            <a:ext cx="6768360" cy="57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2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онный источник Радикал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11640" y="1340640"/>
            <a:ext cx="8208720" cy="511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8b8b8b"/>
              </a:solidFill>
              <a:latin typeface="Calibri"/>
            </a:endParaRPr>
          </a:p>
        </p:txBody>
      </p:sp>
      <p:pic>
        <p:nvPicPr>
          <p:cNvPr id="116" name="Рисунок 3" descr="https://im0-tub-ru.yandex.net/i?id=c229987f9bcc2527709d6c28e1ac4a0b&amp;n=13"/>
          <p:cNvPicPr/>
          <p:nvPr/>
        </p:nvPicPr>
        <p:blipFill>
          <a:blip r:embed="rId1"/>
          <a:stretch/>
        </p:blipFill>
        <p:spPr>
          <a:xfrm>
            <a:off x="1015920" y="1556640"/>
            <a:ext cx="3533400" cy="264744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4" descr="http://vacuumkomplekt.ru/wp-content/uploads/2017/03/%D0%98%D1%81%D1%82%D0%BE%D1%87%D0%BD%D0%B8%D0%BA-%D0%B8%D0%BE%D0%BD%D0%BE%D0%B2-%D0%98%D0%98-4-0.15_5_1-1.jpg"/>
          <p:cNvPicPr/>
          <p:nvPr/>
        </p:nvPicPr>
        <p:blipFill>
          <a:blip r:embed="rId2"/>
          <a:stretch/>
        </p:blipFill>
        <p:spPr>
          <a:xfrm>
            <a:off x="4860000" y="2133000"/>
            <a:ext cx="3811680" cy="37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95640" y="692640"/>
            <a:ext cx="8229240" cy="16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305280" indent="-3052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ля  повышения  равномерности  плотности  ионного тока на поверхности подложки делают трубчатые пучки расходящимися и наклонными за счет оответствующего изменения конфигурации (электродов) магнитного и электрического полей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2195640" y="2715840"/>
            <a:ext cx="5001840" cy="26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51640" y="152604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онный источник Ион-3 имеет полый катод в центре  и  два  разрядных  кольцевых  промежутка  соосно  с ним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7" marL="3429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он-3. I, II  — кольцевые разрядные промежутки, III — центральная ячейка Пеннинга; 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18360" y="3779640"/>
            <a:ext cx="3361680" cy="199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930800" cy="48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59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ногоячеистые источники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229240" cy="30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1000"/>
          </a:bodyPr>
          <a:p>
            <a:pPr marL="326880" indent="-3268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  другому  классу  ионных  источников  относятся ионные источники типа Ион-поток, Ион-4.  В  этих  конструкциях  ионных  источников  с  холодным катодом  разрядные ячейки  расположены  гексагонально  по  поверхности .  Магнитная  система  образована  из  корпуса, многоштырьевой матрицы и совмещенного с ней многоячеистого фланца,  выполненного  из  магнитомягкого материала. Магнитный поток возбуждается соленоидом и равномерно распределяется между разрядными  ячейками, образуя в них магнитные поля с одинаковым значением магнитной индукции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6880" indent="-3268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нодная  матрица  расположена  между  дном  источника и многоячеистым катодным фланцем и имеет отверстия, через которые проходят штыри магнитной системы.  Подача  рабочего  газа  в  области  разряда  осуществляется  через  отверстия  в  штырях  магнитной системы,  и  газ  распределяется  равномерно  по  каждой разрядной ячейке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6880" indent="-3268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таких ионных источниках мы имеем область горения разряда, также определенную скрещенными магнитным  и  электрическим  полями.  Из  этого  условия следуют,  соответственно,  траектории  ионов,  определяемые  силовыми  линиями  электрического  поля.  Из картины  силовых  линий  электрического  поля  следует, что ионные пучки имеют конусную форму и на определенном расстоянии перекрещиваются, а ионы испытывают  соударения.  К  недостаткам  этого  класса  ионных источников следует отнести большой угол падения ионов на подложку, что делает невозможным получение вертикальных структур, а также распыление катодных электродов и попадание примеси металла в ионный пучок. Жестким  требованиям,  предъявляемым  к  параметрам  ионного  пучка,  для  осуществления  травления  по-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6880" indent="-3268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упроводниковых  пластин  в  производстве  изделий микрофотоэлектроники  в  большей  степени  удовлетворяют источники ионов с холодным катодом в виде полого цилиндра .  В  таких  источниках  возможно  получение  ионного пучка большой площади с высокой равномерностью и достаточно малой расходимостью. Высокая равномерность достигается за счет большого числа одинаковых разрядных  промежутков.  Для  формирования  ионного пучка  диаметром 100 мм  необходимо  создать 37 разрядных промежутков, а для формирования равномерного ионного пучка диаметром 200 мм их требуется уже 139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314280" y="3609360"/>
            <a:ext cx="4611240" cy="28375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3" descr=""/>
          <p:cNvPicPr/>
          <p:nvPr/>
        </p:nvPicPr>
        <p:blipFill>
          <a:blip r:embed="rId2"/>
          <a:stretch/>
        </p:blipFill>
        <p:spPr>
          <a:xfrm>
            <a:off x="5282280" y="3365280"/>
            <a:ext cx="304776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71480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сточник Кауфмана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3640" y="620640"/>
            <a:ext cx="7992360" cy="28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0000"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Для  ионно-лучевой  обработки  наибольшее распространение  получили  сеточные (многоапертурные) ионные источники, получившие в литературе  название  источников  Кауфмана. Первоначально устройство было разработано как ионный  движитель  по  космической  программе NASA в 1960'х годах. Позже он был адаптирован для  модификации  материалов  и  ионного  распыления мишеней. Обычно в его состав входит термоэлектронный катод, анод и несколько сеток для многоапертурной  экстракции.  Для  повышения степени ионизации газа и создания широких пучков  с  высокой  равномерностью  создается  соосное магнитное поле с индукцией 3 – 5 мТл. В таких устройствах ионизация происходит в разрядной камере в пространстве анод – накаливаемый катод, при напряжении разряда не превышающем 100 В, а пучок формируется с помощью электростатической  ионно-оптической  системы (ИОС),  выполненной в виде одной, двух или трех сеток. При этом обеспечивается давление  газа  в  разрядной  камере  источника  порядка 10-1 Па при общем давлении в камере 5 10-3 Па и коэффициенте  использования  рабочего  газа  до 80%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именение  таких  устройств  крайне  ограничено вследствие ряда недостатков: потенциальная ненадежность накальных элементов (особенно  при  использовании  активных  газов)  и  как  следствие  сложность  получения  потока  ионов  с высокой  равномерностью;  наличие  ограничений о  плотности  тока  экстрагированных  ионов  при низких (особенно  менее 100 эВ)  энергиях,  которое  определяется  исходя  из  закона  Чарльда – Ленгмюра, и сравнительно небольшая (не более 1,2 мА/см2) плотность тока при энергиях порядка 1 кэВ , что  связано  с  низкой  плотностью плазмы  генерируемого  разряда  и  высокими  требованиями  к  изготовлению  и  юстировке  ИОС. Следует отметить ряд достоинств, определяющих применение многопучкового источника в ионной технологии. 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I. Низкое напряжение разряда (20 В) уменьшает возможность распыления стенок камеры. Ионный пучок содержит небольшое количество примесей (10-6 %) и имеет малый энергетический разброс. 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2. Механизм поддержания стационарного разряда допускает большой диаметр камеры при однородном распределении в ней плазмы, что, в свою очередь, позволяет применять многолучевое извлечение ионного пучка и работать с однородными потоками большого диаметра. и узким энергетическим спектром.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3. Осцилляция электронов позволяет использовать низкое давление в разрядной камере и поддерживать, таким образом, хороший вакуум в рабочей камере технологической установки, что снижает потери пучка и уменьшает загрязнение мишени. 14 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  <a:p>
            <a:pPr marL="274320" indent="-2743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4. Источник имеет высокий газовый к.п.д. (80 %) и высокий энергетический к.п.д. 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395640" y="4057560"/>
            <a:ext cx="2592000" cy="18219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" descr="https://mirznanii.com/images/33/96/7219633.jpeg"/>
          <p:cNvPicPr/>
          <p:nvPr/>
        </p:nvPicPr>
        <p:blipFill>
          <a:blip r:embed="rId2"/>
          <a:stretch/>
        </p:blipFill>
        <p:spPr>
          <a:xfrm>
            <a:off x="4068000" y="3789000"/>
            <a:ext cx="3085920" cy="1800000"/>
          </a:xfrm>
          <a:prstGeom prst="rect">
            <a:avLst/>
          </a:prstGeom>
          <a:ln w="0">
            <a:noFill/>
          </a:ln>
        </p:spPr>
      </p:pic>
      <p:sp>
        <p:nvSpPr>
          <p:cNvPr id="131" name="Прямоугольник 3"/>
          <p:cNvSpPr/>
          <p:nvPr/>
        </p:nvSpPr>
        <p:spPr>
          <a:xfrm>
            <a:off x="3204000" y="5895720"/>
            <a:ext cx="525636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050" spc="-1" strike="noStrike">
                <a:solidFill>
                  <a:srgbClr val="000000"/>
                </a:solidFill>
                <a:latin typeface="Calibri"/>
              </a:rPr>
              <a:t>1 - термокатод, 2 - экран катода,3 - цилиндрический анод, 4 - соленоид, 5 - ввод рабочего газа,6 - плазма,7 - эмиссионный электрод, 8 - ускоряющий электрод, 9 - замедляющий электрод, 10 - ионный пучок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210800" cy="34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9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уоплазмотрон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9640" y="836640"/>
            <a:ext cx="8229240" cy="23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4000"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уоплазмотрон  предназначен для получения ионных пучков высокой интенсивности из газообразных веществ. Разряд в газе слабого давления поддерживается в области между катодом и анодом, в котором имеется малое отверстие (0.5-1.5 мм). Наличие неоднородного магнитного поля и промежуточного электрода позволяет сконцентрировать область разряда в очень малой пространственной области, что и позволяет получать большие токи, за счет увеличения числа столкновений в единицу времени. Толщина полости между анодом и промежуточным электродом составляет 2-5 мм. Экстракция производится из области максимума магнитного поля, где поверхностная плотность ионов может достигать 10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alibri"/>
              </a:rPr>
              <a:t>14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ионов/см2. Пучок обладает очень сильной расходимостью, для уменьшения которой используют вытягивающие электроды специальной формы. Вся система требует охлаждения. Ток пучка, создаваемый дуоплазмотроном, составляет порядка 100 мА 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1403640" y="3357000"/>
            <a:ext cx="5819400" cy="31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2108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48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Ч источники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7640" y="1268640"/>
            <a:ext cx="8229240" cy="175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8000"/>
          </a:bodyPr>
          <a:p>
            <a:pPr marL="346320" indent="-3463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сокочастотные источники предназначены для получения легких ионов путем объемной ионизации газов требуемых элементов. Плазма генерируется высокочастотным электромагнитным полем (10-30 МГц) с мощностью порядка 100 Вт в газе, находящемся под давлением примерно 10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alibri"/>
              </a:rPr>
              <a:t>-3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10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alibri"/>
              </a:rPr>
              <a:t>-2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Торр. ЭМ мощность подается или индуктивно (источник помещается в катушку), или через электроды, введенные в объем источника. Позволяет получать токи 1-20 мА, но обладают большим энергетическим разбросом 100 эВ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2699640" y="2781000"/>
            <a:ext cx="4032000" cy="29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98800" cy="56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0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ВЧ источники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24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6000"/>
          </a:bodyPr>
          <a:p>
            <a:pPr marL="308520" indent="-3085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остаточно совершенным способом создания плазмы является применение для ионизации атомов микроволнового разряда в условиях электронно-циклотронного резонанса, возбуждаемого на ЭЦР 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B/m)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В магнитном поле порядка 1 Тл требуется СВЧ излучение с частотой более 28 ГГц, при этом получен поток плазмы с площадью сечения 800 см2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спешная работа всех ЭЦР-источников обусловлена следующими причинами: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 Отсутствие расходуемых составляющих, что приводит чрезвычайной надежности и стабильности. Время работы составляет десятки дней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Высокая температура электронов (1-101 кэВ) и относительно низкое давление нейтрального газа в плазме позволяют получать высокие концентрации многозарядных ионов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 Ввиду избирательного нагрева ионы остаются холодными, что уменьшает энергетический разброс выводимого пучка. Эмиттанс определяется главным образом размером выходного отверстия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1403640" y="3645000"/>
            <a:ext cx="327024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26800" cy="34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37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Лазерный источник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908640"/>
            <a:ext cx="8506800" cy="28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2000"/>
          </a:bodyPr>
          <a:p>
            <a:pPr marL="303120" indent="-3031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азерный луч большой мощности, сфокусированный на поверхности твердой мишени, при плотности мощности более 10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alibri"/>
              </a:rPr>
              <a:t>8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Вт/см2 будет проходить через поверхность, где плотность электронов низка, и распространяться до тех пор, пока электронная плазменная частота не станет соответствовать частоте лазера. При достижении этого условия происходит быстрый электронный нагрев и интенсивная ионизация, создается плотная горячая плазма. Материал мишени «взрывается», образуя чрезвычайно плотную плазменную струю, распространяющуюся в направлении наибольшего градиента гидродинамического давления, обычно перпендикулярно поверхности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03120" indent="-3031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тенциально полезными свойствами для ионных источников плазменных выбросов являются: 1) значительное количество ионов в выбросе; 2) высокая степень ионизации; 3) короткое время генерирования плазмы; 4) направленность плазменных выбросов (их можно ориентировать вдоль оси вытягивания, что привет к малым эмиттансам пучка); 5) возможность создания разнообразных ядерных частиц, потенциальным источником плазмы является любой твердый материал; 6) простота проектирования и изготовления; 7) отсутствие газа-носителя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Picture 2" descr=""/>
          <p:cNvPicPr/>
          <p:nvPr/>
        </p:nvPicPr>
        <p:blipFill>
          <a:blip r:embed="rId1"/>
          <a:stretch/>
        </p:blipFill>
        <p:spPr>
          <a:xfrm>
            <a:off x="2411640" y="3645000"/>
            <a:ext cx="3217320" cy="27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98800" cy="34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сточник ионов металлов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362800" cy="25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9000"/>
          </a:bodyPr>
          <a:p>
            <a:pPr marL="334080" indent="-334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отличии от ионных источников, использующих для создания пучков ионов атомов газа, методы получения сильноточных источников ионов металлов более ограниченны. В источниках ионов металлов используется, как правило, испарение, поверхностная ионизация или распыление ионов металла при помощи газов носителей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4080" indent="-334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акуумная дуга в парах металла является плазменным разрядом между двумя металлическими электродами в вакууме. Давление должно достаточно низким, чтобы остаточный газ не влиял на процессы в разряде. Основная черта разряда данного типа – образование катодных пятен, очень маленьких областей с большой плотностью тока (более 10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А/см2) на поверхности катода, где материал катода испаряется и ионизируется. По аналогии с нагревом лазером, устанавливается большой градиент давления, который заставляет плазму двигаться сначала перпендикулярно катоду, а затем в направлении анода. Именно эта распространяющаяся плазменная струя и составляет среду, из которой происходит вытягивание ионов. Отличительной чертой источников данного типа является возможность получения очень больших токов ионов металла, которые как правило находятся в разнозарядовом состоянии. Большой ток позволяет сепарировать ионы по зарядовому состоянию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Picture 2" descr=""/>
          <p:cNvPicPr/>
          <p:nvPr/>
        </p:nvPicPr>
        <p:blipFill>
          <a:blip r:embed="rId1"/>
          <a:stretch/>
        </p:blipFill>
        <p:spPr>
          <a:xfrm>
            <a:off x="1115640" y="3357000"/>
            <a:ext cx="3616560" cy="287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заимодействие ускоренных ионов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 веществом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2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9000"/>
          </a:bodyPr>
          <a:p>
            <a:pPr marL="334080" indent="-334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 падении ускоренных ионов (энергия 0.1 – 100 кэВ) на поверхность твердого тела возможны следующие виды взаимодействий: 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4080" indent="-334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 Обратное рассеяние иона атомом или группой атомов на  поверхности.  При  этом  происходит  отклонение  траектории иона и обмен энергией с поверхностью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4080" indent="-334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Атомная дислокация – смещение после удара атома на поверхности в положение с более сильной связью со структурой образца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4080" indent="-334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 Внутренние дислокации в веществе при облучении ионами с большой энергией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4080" indent="-334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. Физическое распыление – удаление с поверхности оного  или  нескольких  атомов  при  передаче  большого  импульса  иона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4080" indent="-334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. Ионная  имплантация – проникновение  быстрого  иона вглубь кристаллической решетки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4080" indent="-334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6. Образование на поверхности новых химических соединений, в некоторых случаях поверхностный слой оказывается в газообразном состоянии и испаряется (химическое распыление)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4080" indent="-334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7. Отражение ионов от поверхности в виде нейтральных частиц в результате оже – нейтрализации. Потенциальная ионно-электронная эмиссия – испускание электрона атомом твердого тела через оже-процесс.  При сближении иона с твердым телом на атомные расстояния возможен переход электрона из твердого тела на нижележащие уровни иона. Высвободившаяся энергия атома через оже-процесс передается другому электрону твердого тела, который может выйти в вакуум. Спектр этих электронов содержит информацию о плотности энергетических состояний электронов в приповерхностных слоях материала. Этот метод исследования электронной структуры твердых тел называется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онно-нейтрализационной спектроскопией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4080" indent="-334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дельные пики на этой зависимости позволяют реализовать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етод ионной оже-спектроскопии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4080" indent="-334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8. Вторичная ион – электронная эмиссия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4080" indent="-334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9. Адсорбция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4080" indent="-334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0. Вторичная ион – ионная эмиссия – ионизация и удаление атомов поверхности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323640" y="980640"/>
            <a:ext cx="8496720" cy="23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2000"/>
          </a:bodyPr>
          <a:p>
            <a:pPr marL="324000" indent="-3240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Жидкометаллические источники состоят из жидкометаллического покрытия на игольчатой подложке. Приложение потенциала в несколько киловольт в высоком вакууме к расположенному рядом вытягивающему электроду приводит к деформации жидкого металла на конце иглы с образованием конуса. На вершине стабилизированного конуса электрическое поле достаточно для создания ионных токов. Этот источник обладает очень высокой яркостью, 10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А/(см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∙ср) и невысоким энергетическим разбросом(менее 10 эВ). Ограничением является применение только таких чистых элементов, которые являются проводниками и имеют низкое давление пара при температуре плавления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Picture 2" descr=""/>
          <p:cNvPicPr/>
          <p:nvPr/>
        </p:nvPicPr>
        <p:blipFill>
          <a:blip r:embed="rId1"/>
          <a:stretch/>
        </p:blipFill>
        <p:spPr>
          <a:xfrm>
            <a:off x="1691640" y="3285000"/>
            <a:ext cx="5400360" cy="29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Значение коэффициента распыления ионами аргона 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(в скобках – эксперимент)</a:t>
            </a:r>
            <a:endParaRPr b="0" lang="ru-RU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827640" y="2277000"/>
            <a:ext cx="719784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4240" y="260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Физико-химические процессы в твердом теле в 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зависимости от энергии бомбардирующих ионов </a:t>
            </a:r>
            <a:endParaRPr b="0" lang="ru-RU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brightnessContrast amount="32000" bright="3000" contrast="5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1331640" y="1917000"/>
            <a:ext cx="6768360" cy="38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570800" cy="34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тери энергии ионом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764640"/>
            <a:ext cx="8434800" cy="41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7000"/>
          </a:bodyPr>
          <a:p>
            <a:pPr marL="339120" indent="-3391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 анализе процессов потери энергии ионом различают два основных механизма: соударения с электронами и соударения с ядрами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9120" indent="-3391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ервый неупругий механизм состоит в том, что быстрый ион взаимодействует с электронами кристаллической решетки, в результате  чего  возникает  возбуждение  и  ионизация  атомов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9120" indent="-3391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ристалла.  Так  как  плотность  электронов  в  веществе  высока, этот процесс можно считать непрерывным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9120" indent="-3391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 втором упругом взаимодействии  происходит  обмен  энергией  между  экранированными  зарядами  ядер  первичного  иона  и  атомами  мишени. Его можно рассматривать как столкновение двух частиц. Ионы высоких  энергий  хорошо  описываются  резерфордовским  рассеянием, ионы средних энергий– экранированным кулоновским рассеянием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9120" indent="-3391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роме этих механизмов, вклад в энергетические потери дают обмен зарядами между движущимся ионом и атомом мишени. Этот обмен особенно эффективен, когда относительная скорость иона сравнима с боровской скоростью электрона 2·10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м/с (более 10эВ)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9120" indent="-3391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аким  образом,  полные  потери  энергии  можно  представить в виде суммы трех составляющих – ядерной, электронной, и обменной 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39120" indent="-3391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 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899640" y="4005000"/>
            <a:ext cx="3543120" cy="7916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"/>
          <p:cNvPicPr/>
          <p:nvPr/>
        </p:nvPicPr>
        <p:blipFill>
          <a:blip r:embed="rId2"/>
          <a:stretch/>
        </p:blipFill>
        <p:spPr>
          <a:xfrm>
            <a:off x="4644000" y="3754800"/>
            <a:ext cx="3686760" cy="143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179640" y="332640"/>
            <a:ext cx="878472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3000"/>
          </a:bodyPr>
          <a:p>
            <a:pPr marL="290520" indent="-290520" algn="ctr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заимодействие с ядрами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0520" indent="-2905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Для  вычисления  потерь,  обусловленных  упругими взаимодействиям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необходимо знать ядерный потенциал  экранирования. Хорошую приближенную формулу для энергетических  потерь  можно  получить,  используя  для  потенциала  обратную квадратичную зависимость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0520" indent="-2905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0520" indent="-2905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де Z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М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и Z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М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- атомные номера и массы первичного иона и атомов  кристаллической  решетки  соответственно; N – концентрация атомов, число частиц/нм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Расчеты по этой формуле дают для большинства вариантов «ион – атом мишени» величину коэффициента  энергетических  потерь  в  диапазоне 100 – 1000 эВ/нм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0520" indent="-29052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 видно из формулы , замедляющая способность вещества не зависит от энергии. Поэтому пробег иона определяется равенством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1547640" y="4719240"/>
            <a:ext cx="5040360" cy="16866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" descr=""/>
          <p:cNvPicPr/>
          <p:nvPr/>
        </p:nvPicPr>
        <p:blipFill>
          <a:blip r:embed="rId2"/>
          <a:stretch/>
        </p:blipFill>
        <p:spPr>
          <a:xfrm>
            <a:off x="1547640" y="1772640"/>
            <a:ext cx="480744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7640" y="260640"/>
            <a:ext cx="7858800" cy="48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59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Взаимодействие с электронами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764640"/>
            <a:ext cx="8362800" cy="231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98800" indent="-2988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собенности  замедления  тяжелых  ионов  в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результате взаимодействия  с  электронам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при  низких  и  промежуточных энергиях  учитываются  в  модели  Линдхарта,  Шарфа  и  Шиотта (ЛШШ). В соответствие с этой моделью, энергетические потери пропорциональны скорости иона,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8800" indent="-2988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де   k′ =  3,28 10-3(Z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+Z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)M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alibri"/>
              </a:rPr>
              <a:t>-1/2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N, эВ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alibri"/>
              </a:rPr>
              <a:t>1/2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/нм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298800" indent="-29880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висит от типа первичного иона и материала мишени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2915640" y="3069000"/>
            <a:ext cx="2232000" cy="9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8588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48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обег иона.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2320" y="908640"/>
            <a:ext cx="819540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6000"/>
          </a:bodyPr>
          <a:p>
            <a:pPr marL="348840" indent="-3488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 вычислении длины пробега иона можно считать, что потери  на  ядерные  и  электронные  взаимодействия  не  связаны друг с другом. Тогда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2104560" y="1484640"/>
            <a:ext cx="4131000" cy="1189440"/>
          </a:xfrm>
          <a:prstGeom prst="rect">
            <a:avLst/>
          </a:prstGeom>
          <a:ln w="0">
            <a:noFill/>
          </a:ln>
        </p:spPr>
      </p:pic>
      <p:sp>
        <p:nvSpPr>
          <p:cNvPr id="107" name="Прямоугольник 4"/>
          <p:cNvSpPr/>
          <p:nvPr/>
        </p:nvSpPr>
        <p:spPr>
          <a:xfrm>
            <a:off x="322200" y="2891880"/>
            <a:ext cx="8570160" cy="28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спользуя разложение Тейлор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учи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общем случае замедляющая способность вещест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пределяется ка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Если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звестна, то равенство можно проинтегрировать и найти полное расстояние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 которое ион с энергией E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проходит до останов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3" descr=""/>
          <p:cNvPicPr/>
          <p:nvPr/>
        </p:nvPicPr>
        <p:blipFill>
          <a:blip r:embed="rId2"/>
          <a:stretch/>
        </p:blipFill>
        <p:spPr>
          <a:xfrm>
            <a:off x="4449600" y="2775960"/>
            <a:ext cx="2773800" cy="9244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"/>
          <p:cNvPicPr/>
          <p:nvPr/>
        </p:nvPicPr>
        <p:blipFill>
          <a:blip r:embed="rId3"/>
          <a:stretch/>
        </p:blipFill>
        <p:spPr>
          <a:xfrm>
            <a:off x="1763640" y="3346560"/>
            <a:ext cx="2178720" cy="5965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"/>
          <p:cNvPicPr/>
          <p:nvPr/>
        </p:nvPicPr>
        <p:blipFill>
          <a:blip r:embed="rId4"/>
          <a:stretch/>
        </p:blipFill>
        <p:spPr>
          <a:xfrm>
            <a:off x="6062040" y="3814920"/>
            <a:ext cx="3098160" cy="7390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"/>
          <p:cNvPicPr/>
          <p:nvPr/>
        </p:nvPicPr>
        <p:blipFill>
          <a:blip r:embed="rId5"/>
          <a:stretch/>
        </p:blipFill>
        <p:spPr>
          <a:xfrm>
            <a:off x="3298680" y="5477040"/>
            <a:ext cx="3360960" cy="6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50680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9000"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3640" indent="-3236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 проведении технологических операций более важной величиной является глубина, на которой остановится ион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3640" indent="-3236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 облучении образца вдоль нормали к поверхности глубина вне-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3640" indent="-3236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рения  совпадает  с  проекцией  траекторного  пробега  на  перво-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3640" indent="-3236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чальное направление движения иона. Эта величина называется  проекционным  пробегом Rp.  Кроме  того,  иногда  необходимо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3640" indent="-3236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нать расстояние, на которое сместится ион до своей остановки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3640" indent="-3236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носительно  начального  направления  движения,  т.е.  поперечный пробег  R⊥ 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3640" indent="-32364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ожно ввести еще и векторный пробег Rc , который представляет собой вектор, проведенный из точки начала движения иона в твердом теле к точке его остановки. Три последние величины связаны соотношением  Rc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= Rp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+ R⊥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323640" y="47664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327960" indent="-3279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словно  источники ионов (ИИ) для ИЛО могут быть классифицированы  в  две  группы:  сильноточные  источники ионов низких энергий и источники ионов высоких энергий. К низким энергиям относятся ионы  с  энергиями  в  диапазоне  до  нескольких  кэВ,  а  к высоким — в интервале от нескольких кэВ до нескольких  сотен  кэВ . Для  ионно-ассистированного синтеза тонкопленочных структур, как правило, требуются ионы с энергиями в диапазоне 10 –150 эВ, а для проведения процессов  активации,  очистки  поверхности  и  распыления мишени — ионы с энергиями в диапазоне 150 –2000 эВ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27960" indent="-3279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 процессах  ионно-лучевой  обработки (ИЛО) наибольшее  распространение  наши  сильноточные  источники  ионов  низких  энергий  с  широкой диаграммой  направленности  пучка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</TotalTime>
  <Application>LibreOffice/7.4.7.2$Linux_X86_64 LibreOffice_project/40$Build-2</Application>
  <AppVersion>15.0000</AppVersion>
  <Words>2470</Words>
  <Paragraphs>96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9-22T02:18:37Z</dcterms:created>
  <dc:creator>Sasha</dc:creator>
  <dc:description/>
  <dc:language>en-US</dc:language>
  <cp:lastModifiedBy>Александр Беркин</cp:lastModifiedBy>
  <dcterms:modified xsi:type="dcterms:W3CDTF">2019-09-23T04:01:32Z</dcterms:modified>
  <cp:revision>30</cp:revision>
  <dc:subject/>
  <dc:title>Ионный источник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3</vt:r8>
  </property>
  <property fmtid="{D5CDD505-2E9C-101B-9397-08002B2CF9AE}" pid="3" name="PresentationFormat">
    <vt:lpwstr>Экран (4:3)</vt:lpwstr>
  </property>
  <property fmtid="{D5CDD505-2E9C-101B-9397-08002B2CF9AE}" pid="4" name="Slides">
    <vt:r8>21</vt:r8>
  </property>
</Properties>
</file>